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30951"/>
        <c:axId val="9469631"/>
      </c:barChart>
      <c:catAx>
        <c:axId val="17630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9631"/>
        <c:crosses val="autoZero"/>
        <c:auto val="1"/>
        <c:lblAlgn val="ctr"/>
        <c:lblOffset val="100"/>
        <c:noMultiLvlLbl val="0"/>
      </c:catAx>
      <c:valAx>
        <c:axId val="9469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30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D09-BE4A-43CF-B7CD-EAE027D7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35D-5FBF-45C1-B35B-773FA130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8E8-87AD-446F-9117-C7AEF4B3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19C-D007-4ED1-A761-81C475F2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A6B-F966-449C-AD7D-FB8A9981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270-F6DC-4C2C-A68D-A770679E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A80-BD9C-41F2-B6B5-06F8EB85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1B8-B710-4EE4-A628-ADAC0304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CA9-AB36-4070-AA27-C2EEA052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338-00C5-466D-A922-0BF03B78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603-7A80-473E-BA66-117D841B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434-1724-4756-ADF1-168BB14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D692F-3732-4165-AA42-46B93007D9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