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95004"/>
        <c:axId val="76261215"/>
      </c:barChart>
      <c:catAx>
        <c:axId val="12495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61215"/>
        <c:crosses val="autoZero"/>
        <c:auto val="1"/>
        <c:lblAlgn val="ctr"/>
        <c:lblOffset val="100"/>
        <c:noMultiLvlLbl val="0"/>
      </c:catAx>
      <c:valAx>
        <c:axId val="76261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95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7DA-070C-4E65-97B8-A4E2E158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BEE-4659-4022-90E5-D084DA08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9CA-8F9C-4E18-A910-D83361B5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4E8-B5BF-4E03-8F44-E65FDBC1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4B2-65A7-44DF-843B-3A0694BD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B1E-0BE8-4E45-9B4E-CA7860F8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C04-E146-412F-898C-B4C36415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753-8B73-4975-A38B-262FA96E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1D6-5903-4812-9572-1E291760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AE6-74C8-4E18-A3FA-945CEF8D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B64-B7CD-45F4-88B7-4D23FBD8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21F-D583-4D26-9EFD-96AA4D40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C867F-1BBE-426F-8F4C-8CCF3B722B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